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971-8129-4240-9EAE-D0265313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399-7D49-4245-A07B-DD6EFA9D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6A2-EFD7-4FEB-896A-4AEEED6E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C31-66E2-4F5A-B1AF-DC897B32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1CD5-2146-4ED5-A39A-8F87C81F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B545-491C-4817-85CC-50EDB31F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AE4-5751-4A10-B4BD-056CDEE6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AE6-F1BF-4CC3-80F0-FD2A30F5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967B-5173-4ED5-8998-D60EB3BB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24F2-564A-4C3A-B29A-CF807B17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6103-F14C-4D1D-AD0C-067A5E16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A2C-9A00-4488-98E8-51FCB77C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2650-2D4C-4394-ABD8-8889DA3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5F8B-D561-46B8-8205-8EDDB8A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AC54-29DA-4C38-B2A7-59370260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658-C47A-4C12-A945-013F525B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05E6-D200-45D3-BD12-E0161FAE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E5F-B1F7-4C22-941E-94EC31F0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DBD-C478-4D91-A57E-FCE0E851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9A7-836B-4D09-9BB0-F67B53BB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111-942F-4732-BF92-28FD1896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7A1-2230-444C-B0CC-74940E7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68F-9BE4-4886-9B5D-6CF86944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A26-7555-4353-8CDD-548CCF6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359F-3BC0-43BA-9C60-74D9C7602C1C}" type="slidenum"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7B20-BFF0-4D3E-8FD9-AD01159B892F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971800"/>
            <a:ext cx="7467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ds, triglyceride, unsaturated, saturated, phospholipids, cholesterol, wax, steroi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96252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ola oil, butter, salad dressing, mayonnaise, avoc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60C-B4F0-4CDF-B184-BACA8E856C9C}" type="slidenum">
              <a:t>1</a:t>
            </a:fld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352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733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14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495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6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2000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438280" y="1600200"/>
            <a:ext cx="1447560" cy="785520"/>
            <a:chOff x="2438280" y="1600200"/>
            <a:chExt cx="1447560" cy="785520"/>
          </a:xfrm>
        </p:grpSpPr>
        <p:sp>
          <p:nvSpPr>
            <p:cNvPr id="353" name=""/>
            <p:cNvSpPr/>
            <p:nvPr/>
          </p:nvSpPr>
          <p:spPr>
            <a:xfrm>
              <a:off x="2438280" y="16002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047760" y="1898280"/>
              <a:ext cx="76320" cy="148680"/>
              <a:chOff x="3047760" y="1898280"/>
              <a:chExt cx="76320" cy="148680"/>
            </a:xfrm>
          </p:grpSpPr>
          <p:sp>
            <p:nvSpPr>
              <p:cNvPr id="355" name=""/>
              <p:cNvSpPr/>
              <p:nvPr/>
            </p:nvSpPr>
            <p:spPr>
              <a:xfrm>
                <a:off x="304776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2408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 flipV="1">
            <a:off x="5257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638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019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248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375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377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397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399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198108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5BE-7C05-4D00-BBD0-5C50C73860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416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428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32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450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452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472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474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743200" y="2590920"/>
            <a:ext cx="685800" cy="457200"/>
            <a:chOff x="2743200" y="2590920"/>
            <a:chExt cx="685800" cy="457200"/>
          </a:xfrm>
        </p:grpSpPr>
        <p:sp>
          <p:nvSpPr>
            <p:cNvPr id="483" name=""/>
            <p:cNvSpPr/>
            <p:nvPr/>
          </p:nvSpPr>
          <p:spPr>
            <a:xfrm>
              <a:off x="2743200" y="2666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43200" y="25909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00A-565B-47E6-8AF1-EEEEADC576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492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8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438280" y="2438280"/>
            <a:ext cx="3962160" cy="785520"/>
            <a:chOff x="2438280" y="2438280"/>
            <a:chExt cx="3962160" cy="785520"/>
          </a:xfrm>
        </p:grpSpPr>
        <p:sp>
          <p:nvSpPr>
            <p:cNvPr id="515" name=""/>
            <p:cNvSpPr/>
            <p:nvPr/>
          </p:nvSpPr>
          <p:spPr>
            <a:xfrm flipV="1">
              <a:off x="3352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81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733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62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11444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4304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495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876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05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320004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2438280" y="2438280"/>
              <a:ext cx="1447560" cy="785520"/>
              <a:chOff x="2438280" y="2438280"/>
              <a:chExt cx="1447560" cy="785520"/>
            </a:xfrm>
          </p:grpSpPr>
          <p:sp>
            <p:nvSpPr>
              <p:cNvPr id="527" name=""/>
              <p:cNvSpPr/>
              <p:nvPr/>
            </p:nvSpPr>
            <p:spPr>
              <a:xfrm>
                <a:off x="243828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3047760" y="2736360"/>
                <a:ext cx="76320" cy="148680"/>
                <a:chOff x="3047760" y="2736360"/>
                <a:chExt cx="76320" cy="1486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04776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12408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31" name=""/>
            <p:cNvSpPr/>
            <p:nvPr/>
          </p:nvSpPr>
          <p:spPr>
            <a:xfrm flipV="1">
              <a:off x="525744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8604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638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67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6019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48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7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549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551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560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209680" y="28195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D16-286E-4C44-A7BD-1FE446DAA7A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570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582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86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38280" y="2438280"/>
            <a:ext cx="3962160" cy="785520"/>
            <a:chOff x="2438280" y="2438280"/>
            <a:chExt cx="3962160" cy="785520"/>
          </a:xfrm>
        </p:grpSpPr>
        <p:sp>
          <p:nvSpPr>
            <p:cNvPr id="593" name=""/>
            <p:cNvSpPr/>
            <p:nvPr/>
          </p:nvSpPr>
          <p:spPr>
            <a:xfrm flipV="1">
              <a:off x="3352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81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733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62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11444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4304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495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24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4876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05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320004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438280" y="2438280"/>
              <a:ext cx="1447560" cy="785520"/>
              <a:chOff x="2438280" y="2438280"/>
              <a:chExt cx="1447560" cy="785520"/>
            </a:xfrm>
          </p:grpSpPr>
          <p:sp>
            <p:nvSpPr>
              <p:cNvPr id="605" name=""/>
              <p:cNvSpPr/>
              <p:nvPr/>
            </p:nvSpPr>
            <p:spPr>
              <a:xfrm>
                <a:off x="243828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47760" y="2736360"/>
                <a:ext cx="76320" cy="148680"/>
                <a:chOff x="3047760" y="2736360"/>
                <a:chExt cx="76320" cy="1486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4776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12408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09" name=""/>
            <p:cNvSpPr/>
            <p:nvPr/>
          </p:nvSpPr>
          <p:spPr>
            <a:xfrm flipV="1">
              <a:off x="525744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8604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638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67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019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48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5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627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629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31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638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209680" y="28195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2590920" y="3276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F0A-4927-4F41-BE9C-5A9B7C2991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649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65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672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684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88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706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708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717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895480" y="3352680"/>
            <a:ext cx="685800" cy="457200"/>
            <a:chOff x="2895480" y="3352680"/>
            <a:chExt cx="685800" cy="457200"/>
          </a:xfrm>
        </p:grpSpPr>
        <p:sp>
          <p:nvSpPr>
            <p:cNvPr id="720" name=""/>
            <p:cNvSpPr/>
            <p:nvPr/>
          </p:nvSpPr>
          <p:spPr>
            <a:xfrm>
              <a:off x="2895480" y="3428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95480" y="335268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A84-5F07-47FE-A72A-719790C5F8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729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741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45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752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764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65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68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3352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3581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33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3962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114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4495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4724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876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5105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20004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438280" y="3276720"/>
            <a:ext cx="1447560" cy="785520"/>
            <a:chOff x="2438280" y="3276720"/>
            <a:chExt cx="1447560" cy="785520"/>
          </a:xfrm>
        </p:grpSpPr>
        <p:sp>
          <p:nvSpPr>
            <p:cNvPr id="786" name=""/>
            <p:cNvSpPr/>
            <p:nvPr/>
          </p:nvSpPr>
          <p:spPr>
            <a:xfrm>
              <a:off x="2438280" y="327672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3047760" y="3574800"/>
              <a:ext cx="76320" cy="148680"/>
              <a:chOff x="3047760" y="3574800"/>
              <a:chExt cx="76320" cy="148680"/>
            </a:xfrm>
          </p:grpSpPr>
          <p:sp>
            <p:nvSpPr>
              <p:cNvPr id="788" name=""/>
              <p:cNvSpPr/>
              <p:nvPr/>
            </p:nvSpPr>
            <p:spPr>
              <a:xfrm>
                <a:off x="304776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12408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90" name=""/>
          <p:cNvSpPr/>
          <p:nvPr/>
        </p:nvSpPr>
        <p:spPr>
          <a:xfrm flipV="1">
            <a:off x="5257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5486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638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5867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6019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6248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797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209680" y="5791320"/>
            <a:ext cx="685800" cy="457200"/>
            <a:chOff x="2209680" y="5791320"/>
            <a:chExt cx="685800" cy="457200"/>
          </a:xfrm>
        </p:grpSpPr>
        <p:sp>
          <p:nvSpPr>
            <p:cNvPr id="800" name=""/>
            <p:cNvSpPr/>
            <p:nvPr/>
          </p:nvSpPr>
          <p:spPr>
            <a:xfrm>
              <a:off x="22096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096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953-85A7-4106-99E3-7B37E4AD1CF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809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821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25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832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844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48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4" name=""/>
          <p:cNvSpPr/>
          <p:nvPr/>
        </p:nvSpPr>
        <p:spPr>
          <a:xfrm flipV="1">
            <a:off x="3352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3581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733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3962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4114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4495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/>
          <p:nvPr/>
        </p:nvSpPr>
        <p:spPr>
          <a:xfrm>
            <a:off x="4724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876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5105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320004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438280" y="3276720"/>
            <a:ext cx="1447560" cy="785520"/>
            <a:chOff x="2438280" y="3276720"/>
            <a:chExt cx="1447560" cy="785520"/>
          </a:xfrm>
        </p:grpSpPr>
        <p:sp>
          <p:nvSpPr>
            <p:cNvPr id="866" name=""/>
            <p:cNvSpPr/>
            <p:nvPr/>
          </p:nvSpPr>
          <p:spPr>
            <a:xfrm>
              <a:off x="2438280" y="327672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3047760" y="3574800"/>
              <a:ext cx="76320" cy="148680"/>
              <a:chOff x="3047760" y="3574800"/>
              <a:chExt cx="76320" cy="148680"/>
            </a:xfrm>
          </p:grpSpPr>
          <p:sp>
            <p:nvSpPr>
              <p:cNvPr id="868" name=""/>
              <p:cNvSpPr/>
              <p:nvPr/>
            </p:nvSpPr>
            <p:spPr>
              <a:xfrm>
                <a:off x="304776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2408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70" name=""/>
          <p:cNvSpPr/>
          <p:nvPr/>
        </p:nvSpPr>
        <p:spPr>
          <a:xfrm flipV="1">
            <a:off x="5257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5486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638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5867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19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6248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877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2209680" y="365760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F8E-5E04-4182-9063-01F1A81F759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889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901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05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912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924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28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4" name=""/>
          <p:cNvSpPr/>
          <p:nvPr/>
        </p:nvSpPr>
        <p:spPr>
          <a:xfrm flipV="1">
            <a:off x="3352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733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3962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4114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495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876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5105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320004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2438280" y="3276720"/>
            <a:ext cx="1447560" cy="785520"/>
            <a:chOff x="2438280" y="3276720"/>
            <a:chExt cx="1447560" cy="785520"/>
          </a:xfrm>
        </p:grpSpPr>
        <p:sp>
          <p:nvSpPr>
            <p:cNvPr id="946" name=""/>
            <p:cNvSpPr/>
            <p:nvPr/>
          </p:nvSpPr>
          <p:spPr>
            <a:xfrm>
              <a:off x="2438280" y="327672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3047760" y="3574800"/>
              <a:ext cx="76320" cy="148680"/>
              <a:chOff x="3047760" y="3574800"/>
              <a:chExt cx="76320" cy="148680"/>
            </a:xfrm>
          </p:grpSpPr>
          <p:sp>
            <p:nvSpPr>
              <p:cNvPr id="948" name=""/>
              <p:cNvSpPr/>
              <p:nvPr/>
            </p:nvSpPr>
            <p:spPr>
              <a:xfrm>
                <a:off x="304776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2408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50" name=""/>
          <p:cNvSpPr/>
          <p:nvPr/>
        </p:nvSpPr>
        <p:spPr>
          <a:xfrm flipV="1">
            <a:off x="5257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5486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638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5867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019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6248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957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2209680" y="365760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2514600" y="4191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97A-CC49-465E-A05C-522B4795ED5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970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982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83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86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993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09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981080" y="3276720"/>
            <a:ext cx="3962520" cy="785520"/>
            <a:chOff x="1981080" y="3276720"/>
            <a:chExt cx="3962520" cy="785520"/>
          </a:xfrm>
        </p:grpSpPr>
        <p:sp>
          <p:nvSpPr>
            <p:cNvPr id="1016" name=""/>
            <p:cNvSpPr/>
            <p:nvPr/>
          </p:nvSpPr>
          <p:spPr>
            <a:xfrm flipV="1">
              <a:off x="2895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124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276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05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3657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86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4038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67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4419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48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2742840" y="3885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1981080" y="3276720"/>
              <a:ext cx="1447560" cy="785520"/>
              <a:chOff x="1981080" y="3276720"/>
              <a:chExt cx="1447560" cy="785520"/>
            </a:xfrm>
          </p:grpSpPr>
          <p:sp>
            <p:nvSpPr>
              <p:cNvPr id="1028" name=""/>
              <p:cNvSpPr/>
              <p:nvPr/>
            </p:nvSpPr>
            <p:spPr>
              <a:xfrm>
                <a:off x="1981080" y="327672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29" name=""/>
              <p:cNvGrpSpPr/>
              <p:nvPr/>
            </p:nvGrpSpPr>
            <p:grpSpPr>
              <a:xfrm>
                <a:off x="2590560" y="3574800"/>
                <a:ext cx="76320" cy="148680"/>
                <a:chOff x="2590560" y="3574800"/>
                <a:chExt cx="76320" cy="14868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259056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66688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 flipV="1">
              <a:off x="4800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29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5181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10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5562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91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1039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2743200" y="4495680"/>
            <a:ext cx="685800" cy="457200"/>
            <a:chOff x="2743200" y="4495680"/>
            <a:chExt cx="685800" cy="457200"/>
          </a:xfrm>
        </p:grpSpPr>
        <p:sp>
          <p:nvSpPr>
            <p:cNvPr id="1044" name=""/>
            <p:cNvSpPr/>
            <p:nvPr/>
          </p:nvSpPr>
          <p:spPr>
            <a:xfrm>
              <a:off x="2743200" y="4571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43200" y="449568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1F1-6CDA-47CD-B70F-F6FA9BB28CB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1053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1065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9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1076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1088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92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1981080" y="3276720"/>
            <a:ext cx="3962520" cy="785520"/>
            <a:chOff x="1981080" y="3276720"/>
            <a:chExt cx="3962520" cy="785520"/>
          </a:xfrm>
        </p:grpSpPr>
        <p:sp>
          <p:nvSpPr>
            <p:cNvPr id="1099" name=""/>
            <p:cNvSpPr/>
            <p:nvPr/>
          </p:nvSpPr>
          <p:spPr>
            <a:xfrm flipV="1">
              <a:off x="2895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124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3276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05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3657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886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4038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67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4419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8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742840" y="3885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1981080" y="3276720"/>
              <a:ext cx="1447560" cy="785520"/>
              <a:chOff x="1981080" y="3276720"/>
              <a:chExt cx="1447560" cy="785520"/>
            </a:xfrm>
          </p:grpSpPr>
          <p:sp>
            <p:nvSpPr>
              <p:cNvPr id="1111" name=""/>
              <p:cNvSpPr/>
              <p:nvPr/>
            </p:nvSpPr>
            <p:spPr>
              <a:xfrm>
                <a:off x="1981080" y="327672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2590560" y="3574800"/>
                <a:ext cx="76320" cy="148680"/>
                <a:chOff x="2590560" y="3574800"/>
                <a:chExt cx="76320" cy="1486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59056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66688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 flipV="1">
              <a:off x="4800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029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181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410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5562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91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1122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3200400" y="5791320"/>
            <a:ext cx="685800" cy="457200"/>
            <a:chOff x="3200400" y="5791320"/>
            <a:chExt cx="685800" cy="457200"/>
          </a:xfrm>
        </p:grpSpPr>
        <p:sp>
          <p:nvSpPr>
            <p:cNvPr id="1127" name=""/>
            <p:cNvSpPr/>
            <p:nvPr/>
          </p:nvSpPr>
          <p:spPr>
            <a:xfrm>
              <a:off x="320040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20040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711-B162-45FA-A33F-448F27F00F4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Lipids are hydrophobic –”water fearing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971800"/>
            <a:ext cx="205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Includes fats, waxes, steroids, &amp; o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981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Do NOT mix with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5790960" cy="2974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1320" y="5257800"/>
            <a:ext cx="485640" cy="685800"/>
          </a:xfrm>
          <a:prstGeom prst="upArrow">
            <a:avLst>
              <a:gd name="adj1" fmla="val 50000"/>
              <a:gd name="adj2" fmla="val 353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 MOLEC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DB4-C03B-4EE3-9D41-52CC0762F6E4}" type="slidenum">
              <a:t>2</a:t>
            </a:fld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219320" y="914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Tri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Arial"/>
              </a:rPr>
              <a:t>glycer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1137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1149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1160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1172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73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76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1981080" y="3276720"/>
            <a:ext cx="3962520" cy="785520"/>
            <a:chOff x="1981080" y="3276720"/>
            <a:chExt cx="3962520" cy="785520"/>
          </a:xfrm>
        </p:grpSpPr>
        <p:sp>
          <p:nvSpPr>
            <p:cNvPr id="1183" name=""/>
            <p:cNvSpPr/>
            <p:nvPr/>
          </p:nvSpPr>
          <p:spPr>
            <a:xfrm flipV="1">
              <a:off x="2895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124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276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05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57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86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4038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67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419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48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 flipV="1">
              <a:off x="2742840" y="3885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981080" y="3276720"/>
              <a:ext cx="1447560" cy="785520"/>
              <a:chOff x="1981080" y="3276720"/>
              <a:chExt cx="1447560" cy="785520"/>
            </a:xfrm>
          </p:grpSpPr>
          <p:sp>
            <p:nvSpPr>
              <p:cNvPr id="1195" name=""/>
              <p:cNvSpPr/>
              <p:nvPr/>
            </p:nvSpPr>
            <p:spPr>
              <a:xfrm>
                <a:off x="1981080" y="327672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2590560" y="3574800"/>
                <a:ext cx="76320" cy="148680"/>
                <a:chOff x="2590560" y="3574800"/>
                <a:chExt cx="76320" cy="14868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259056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66688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99" name=""/>
            <p:cNvSpPr/>
            <p:nvPr/>
          </p:nvSpPr>
          <p:spPr>
            <a:xfrm flipV="1">
              <a:off x="4800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29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5181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410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5562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91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1206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3200400" y="5791320"/>
            <a:ext cx="685800" cy="457200"/>
            <a:chOff x="3200400" y="5791320"/>
            <a:chExt cx="685800" cy="457200"/>
          </a:xfrm>
        </p:grpSpPr>
        <p:sp>
          <p:nvSpPr>
            <p:cNvPr id="1211" name=""/>
            <p:cNvSpPr/>
            <p:nvPr/>
          </p:nvSpPr>
          <p:spPr>
            <a:xfrm>
              <a:off x="320040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0040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1143000" y="52578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ater from Condensation/dehydration synthesi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1CF-F5BD-4FC4-A42A-2BA546E2F00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s of Fatty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saturated fatty acids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(better fats ie: oil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Contain a double bond between carbons (liquid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"/>
          <p:cNvSpPr/>
          <p:nvPr/>
        </p:nvSpPr>
        <p:spPr>
          <a:xfrm>
            <a:off x="533520" y="350532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turated fatty acids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(bad fats ie: shortenin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All single bonds between carbons (solid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365-FCC4-41F1-BC9A-9E217B6F09E0}" type="slidenum">
              <a:t>21</a:t>
            </a:fld>
          </a:p>
        </p:txBody>
      </p:sp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s of Fatty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463716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7848720" y="2895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nds in Carbon ch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2743200" y="55627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bond in carbon ch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114800" y="4419360"/>
            <a:ext cx="18288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45A-E40C-4A54-A622-00A0120CBB06}" type="slidenum">
              <a:t>22</a:t>
            </a:fld>
          </a:p>
        </p:txBody>
      </p:sp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ts in Organis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Most animal fats have a high proportion of saturated fatty acids &amp; exist as solids at room temperature (butter, margarine, shortening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048120" cy="277956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736-DB32-4A3B-A7DE-33B94F61BFEA}" type="slidenum">
              <a:t>23</a:t>
            </a:fld>
          </a:p>
        </p:txBody>
      </p:sp>
    </p:spTree>
  </p:cSld>
  <p:transition spd="med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ts in Organis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st plant oils tend to be low in saturated fatty acids &amp; exist as liquids at room temperature (oil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6477120" cy="316728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6094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lyunsaturated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4267080" y="5546880"/>
            <a:ext cx="4038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double bo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7315200" y="3276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*Best Choice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147-86C8-4B73-8E37-8F877A9395CA}" type="slidenum">
              <a:t>24</a:t>
            </a:fld>
          </a:p>
        </p:txBody>
      </p:sp>
    </p:spTree>
  </p:cSld>
  <p:transition spd="med"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8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[Cis and Trans Bonds]"/>
          <p:cNvPicPr/>
          <p:nvPr/>
        </p:nvPicPr>
        <p:blipFill>
          <a:blip r:embed="rId2"/>
          <a:stretch/>
        </p:blipFill>
        <p:spPr>
          <a:xfrm>
            <a:off x="762120" y="1249200"/>
            <a:ext cx="7543800" cy="5148360"/>
          </a:xfrm>
          <a:prstGeom prst="rect">
            <a:avLst/>
          </a:prstGeom>
          <a:ln w="0">
            <a:noFill/>
          </a:ln>
        </p:spPr>
      </p:pic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s of Fatty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640-55F0-4627-87A1-E07CBC233A74}" type="slidenum">
              <a:t>25</a:t>
            </a:fld>
          </a:p>
        </p:txBody>
      </p:sp>
    </p:spTree>
  </p:cSld>
  <p:transition spd="med">
    <p:fade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rans Fat (the “Ugly” fat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Usually made from cis-unsaturated fats in an industrial process called “hydrogenation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Hydrogenation” – conversion of unsaturated to saturated (solids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Have longer shelf lif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They increase LDL cholesterol levels and decrease HDL cholesterol levels 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Comic Sans MS"/>
              </a:rPr>
              <a:t>Harmful</a:t>
            </a: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 as saturated fats – or WORSE!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5E5-805B-4A97-90FB-CCF9DCCE0D0F}" type="slidenum">
              <a:t>26</a:t>
            </a:fld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holestero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“bad guy!” Our bodies make about 2 g of cholesterol per day, and that makes up about 85% of blood cholesterol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15% comes from dietary sourc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nd naturally in cell membranes and used to synthesize certain hormones – sex hormone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wo types of Cholestero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DL’s - Low Density Lipoproteins (bad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DL’s – High Density Lipoproteins (good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reducing processed breads, pasta, and other highly saturated foods can help decrease LDL accumulation*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4952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F43-5028-42BD-95F4-B1D87A25FF59}" type="slidenum">
              <a:t>27</a:t>
            </a:fld>
          </a:p>
        </p:txBody>
      </p:sp>
    </p:spTree>
  </p:cSld>
  <p:transition spd="med"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Comic Sans MS"/>
              </a:rPr>
              <a:t>30%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of the total energy intake should be in the form of fats.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rbohydrates and proteins (4kcal/g)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kcal/g for every gram of fat energ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__g of Carbs X 4kcal/g = __kcal 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__g of fat X 9kcal/g = __kcal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__g of proteins X 4kcal/g = __kcal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8A9-C3FE-4FCC-8458-71329ED2C515}" type="slidenum">
              <a:t>28</a:t>
            </a:fld>
          </a:p>
        </p:txBody>
      </p:sp>
    </p:spTree>
  </p:cSld>
  <p:transition spd="med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tero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he carbon skeleton of steroids is bent to form 4 fused ring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304920" y="2819520"/>
            <a:ext cx="33526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Cholesterol is the “base steroid” from which your body produces other steroid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" y="5715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4c26"/>
                </a:solidFill>
                <a:latin typeface="Comic Sans MS"/>
              </a:rPr>
              <a:t>Estrogen &amp; Testosterone are also stero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2"/>
          <a:srcRect l="1626" t="834" r="1626" b="10869"/>
          <a:stretch/>
        </p:blipFill>
        <p:spPr>
          <a:xfrm>
            <a:off x="4114800" y="1447920"/>
            <a:ext cx="4800600" cy="406224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6934320" y="2286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3886200" y="3733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7162920" y="3429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4495680" y="41148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 flipH="1" flipV="1">
            <a:off x="6553080" y="18288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620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8F5-E6D3-4689-B6B8-E45FCA226A1B}" type="slidenum">
              <a:t>29</a:t>
            </a:fld>
          </a:p>
        </p:txBody>
      </p:sp>
    </p:spTree>
  </p:cSld>
  <p:transition spd="med">
    <p:fade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unction of Lip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  <a:ea typeface="Arial"/>
              </a:rPr>
              <a:t>Fats store energy, help to insulate the body, and cushion and protect organs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33720" y="2590920"/>
            <a:ext cx="4800600" cy="36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C44-71DF-4547-823F-A9824239C791}" type="slidenum">
              <a:t>3</a:t>
            </a:fld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ynthetic Anabolic Stero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76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They are variants of testostero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380880" y="251460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ome athletes use them to build up their muscles quick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57200" y="44197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hey can pose serious health ris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2"/>
          <a:srcRect l="3699" t="0" r="0" b="3080"/>
          <a:stretch/>
        </p:blipFill>
        <p:spPr>
          <a:xfrm>
            <a:off x="5029200" y="1219320"/>
            <a:ext cx="3720960" cy="45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097-294D-4845-AA73-A496B233313B}" type="slidenum">
              <a:t>30</a:t>
            </a:fld>
          </a:p>
        </p:txBody>
      </p:sp>
    </p:spTree>
  </p:cSld>
  <p:transition spd="med"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Dietary fat consists of the molecule triglyceride composed of glycerol and three fatty acid chai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916" t="863" r="1695" b="56257"/>
          <a:stretch/>
        </p:blipFill>
        <p:spPr>
          <a:xfrm>
            <a:off x="533520" y="2819520"/>
            <a:ext cx="8088120" cy="2921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yce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733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ty Acid Ch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5867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Dehydration/Condensation links the fatty acids to Glyce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133360" y="4495680"/>
            <a:ext cx="5331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6F5-8591-45DF-BF28-9899A55B3B62}" type="slidenum">
              <a:t>4</a:t>
            </a:fld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riglycer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Monomer of lipid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Composed of Glycerol &amp; 3 fatty acid cha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0384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Glycerol forms the “backbone” of the f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297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48520" y="4724280"/>
            <a:ext cx="609480" cy="609840"/>
          </a:xfrm>
          <a:prstGeom prst="upArrow">
            <a:avLst>
              <a:gd name="adj1" fmla="val 50000"/>
              <a:gd name="adj2" fmla="val 2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c Alcoh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689-E999-426E-9795-F473C69F5DD1}" type="slidenum">
              <a:t>5</a:t>
            </a:fld>
          </a:p>
        </p:txBody>
      </p:sp>
    </p:spTree>
  </p:cSld>
  <p:transition spd="med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riglycer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916" t="45506" r="1695" b="4129"/>
          <a:stretch/>
        </p:blipFill>
        <p:spPr>
          <a:xfrm>
            <a:off x="304920" y="1981080"/>
            <a:ext cx="8458200" cy="3587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5257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38080" y="4724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181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ty Acid Cha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4343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62520" y="3580920"/>
            <a:ext cx="9144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590920" y="2819160"/>
            <a:ext cx="137160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DBB-CB97-474B-B11A-C8985566D409}" type="slidenum">
              <a:t>6</a:t>
            </a:fld>
          </a:p>
        </p:txBody>
      </p:sp>
    </p:spTree>
  </p:cSld>
  <p:transition spd="med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209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56272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94360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32448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2209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647960" y="2285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86200" y="1676520"/>
            <a:ext cx="1447560" cy="785520"/>
            <a:chOff x="3886200" y="1676520"/>
            <a:chExt cx="1447560" cy="785520"/>
          </a:xfrm>
        </p:grpSpPr>
        <p:sp>
          <p:nvSpPr>
            <p:cNvPr id="134" name=""/>
            <p:cNvSpPr/>
            <p:nvPr/>
          </p:nvSpPr>
          <p:spPr>
            <a:xfrm>
              <a:off x="3886200" y="167652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495680" y="1974600"/>
              <a:ext cx="76320" cy="148680"/>
              <a:chOff x="4495680" y="1974600"/>
              <a:chExt cx="76320" cy="148680"/>
            </a:xfrm>
          </p:grpSpPr>
          <p:sp>
            <p:nvSpPr>
              <p:cNvPr id="136" name=""/>
              <p:cNvSpPr/>
              <p:nvPr/>
            </p:nvSpPr>
            <p:spPr>
              <a:xfrm>
                <a:off x="4495680" y="19746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72000" y="19746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 flipV="1">
            <a:off x="670572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08660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46748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2209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156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158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178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180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0666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  <a:ea typeface="Arial"/>
              </a:rPr>
              <a:t>Glycerol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10666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Fatty Acid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F82-3CFC-4B6A-9A49-FFA69325AD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352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733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14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76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2000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438280" y="1600200"/>
            <a:ext cx="1447560" cy="785520"/>
            <a:chOff x="2438280" y="1600200"/>
            <a:chExt cx="1447560" cy="785520"/>
          </a:xfrm>
        </p:grpSpPr>
        <p:sp>
          <p:nvSpPr>
            <p:cNvPr id="208" name=""/>
            <p:cNvSpPr/>
            <p:nvPr/>
          </p:nvSpPr>
          <p:spPr>
            <a:xfrm>
              <a:off x="2438280" y="16002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047760" y="1898280"/>
              <a:ext cx="76320" cy="148680"/>
              <a:chOff x="3047760" y="1898280"/>
              <a:chExt cx="76320" cy="1486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776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2408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 flipV="1">
            <a:off x="5257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38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19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230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252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254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26C-C3EF-4510-9F9F-2953196B85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352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733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114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495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876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000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438280" y="1600200"/>
            <a:ext cx="1447560" cy="785520"/>
            <a:chOff x="2438280" y="1600200"/>
            <a:chExt cx="1447560" cy="785520"/>
          </a:xfrm>
        </p:grpSpPr>
        <p:sp>
          <p:nvSpPr>
            <p:cNvPr id="280" name=""/>
            <p:cNvSpPr/>
            <p:nvPr/>
          </p:nvSpPr>
          <p:spPr>
            <a:xfrm>
              <a:off x="2438280" y="16002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047760" y="1898280"/>
              <a:ext cx="76320" cy="148680"/>
              <a:chOff x="3047760" y="1898280"/>
              <a:chExt cx="76320" cy="148680"/>
            </a:xfrm>
          </p:grpSpPr>
          <p:sp>
            <p:nvSpPr>
              <p:cNvPr id="282" name=""/>
              <p:cNvSpPr/>
              <p:nvPr/>
            </p:nvSpPr>
            <p:spPr>
              <a:xfrm>
                <a:off x="304776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2408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 flipV="1">
            <a:off x="5257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638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019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302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304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324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326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198108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4EB-2BF9-448F-9A8E-E4EC614F3E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9:29:47Z</dcterms:created>
  <dc:creator>Cheryl Massengale</dc:creator>
  <dc:description/>
  <dc:language>en-US</dc:language>
  <cp:lastModifiedBy>MattJodi</cp:lastModifiedBy>
  <dcterms:modified xsi:type="dcterms:W3CDTF">2008-03-16T13:31:44Z</dcterms:modified>
  <cp:revision>121</cp:revision>
  <dc:subject/>
  <dc:title>Biochemistry of Cells</dc:title>
</cp:coreProperties>
</file>